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8FD6-024E-4D7D-97A5-D121CFE9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E2B-2087-4A22-B9E7-4BD5588D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ED88-4BE9-4D54-AA0F-D7334D5C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D7B-4F4C-4BAB-BA63-6A86EF6E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9685A-96BE-419A-A59E-770ABE65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0F3CC-A9BC-488F-BDC9-CB636DAC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388F4-2AF1-4D14-8A20-463DDBFA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13003-C4EA-41FB-85FB-6AC4473A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4B6D8-1EF2-4EBF-812F-609D3B5C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7B382-B9DD-43A9-A049-168F14E9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A0B8D-8352-4540-A69E-B9C8D446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8D46-A321-4090-9F1B-CF4BA103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F0C9C-81D4-45E6-B289-71F75DAE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92B1D-40BC-463E-B9B5-E21FEC5F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0DCE9-165F-408E-8F71-9E0F8E5D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F38A7-2B95-4940-89D5-43F4E31B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A0D3A-8E7B-45F6-A9EB-3575CD52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51C-255F-4DAD-96A9-5C8D42C8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DF9-B452-4EB7-98FA-7A43FA79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A5ED-895B-4484-8383-0305FBD9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4644-4B8C-48C1-867C-A1A54C53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684-C8D0-47AD-A9D1-E4BFDB8C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5496-42B8-4E4D-A4A8-C8A1C0E3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1B73-609E-45B6-964C-A7343EFA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DC53-8F3C-431E-BE73-26B2E4981511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B399-8DA3-4B3F-880C-E758DC3841E2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5400" spc="-1" strike="noStrike">
                <a:solidFill>
                  <a:srgbClr val="e3e3ff"/>
                </a:solidFill>
                <a:latin typeface="Arial"/>
              </a:rPr>
              <a:t>Guns, Germs &amp; Steel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 geographical look at history – inspired by Jared Diam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Conqu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In the 1400-1500s, Europeans set out with their new tools to conquer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hey sailed to Africa and America and used their </a:t>
            </a:r>
            <a:r>
              <a:rPr b="0" lang="en-CA" sz="2800" spc="-1" strike="noStrike">
                <a:solidFill>
                  <a:srgbClr val="00ffcc"/>
                </a:solidFill>
                <a:latin typeface="Arial"/>
              </a:rPr>
              <a:t>guns, germs, and steel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to take ov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iding horses and armed with guns and germs (like small pox), they enslaved and killed many Africans and Americans and took over much of their la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hey said their conquest showed that white people were smarter, but Jared Diamond says it was because they had better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geographic luck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did people transition from nomadic tribes to settled communitie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flow chart of key stages in this development from your Guns, Germs and Steel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Diagram 3" descr=""/>
          <p:cNvPicPr/>
          <p:nvPr/>
        </p:nvPicPr>
        <p:blipFill>
          <a:blip r:embed="rId1"/>
          <a:stretch/>
        </p:blipFill>
        <p:spPr>
          <a:xfrm>
            <a:off x="1523880" y="3333600"/>
            <a:ext cx="60962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Key Vocabul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ffff"/>
                </a:solidFill>
                <a:latin typeface="Arial"/>
              </a:rPr>
              <a:t>Geography</a:t>
            </a: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 – the study of the earth</a:t>
            </a:r>
            <a:r>
              <a:rPr b="0" lang="ja-JP" sz="25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s land and peop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ffff"/>
                </a:solidFill>
                <a:latin typeface="Arial"/>
              </a:rPr>
              <a:t>Latitude</a:t>
            </a: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 – lines that measure from North to South, often leading to changes in climate 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(e.g. the Equa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ffff"/>
                </a:solidFill>
                <a:latin typeface="Arial"/>
              </a:rPr>
              <a:t>Longitude</a:t>
            </a: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 – lines that measure from East to West, leading to changes in time zones 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(e.g. the Prime Meridi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ffff"/>
                </a:solidFill>
                <a:latin typeface="Arial"/>
              </a:rPr>
              <a:t>Nomad</a:t>
            </a: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 – people who wander from place to place, following their food; hunter-gatherer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ffff"/>
                </a:solidFill>
                <a:latin typeface="Arial"/>
              </a:rPr>
              <a:t>Domesticate</a:t>
            </a: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 – training plants and/or animals for human us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ffff"/>
                </a:solidFill>
                <a:latin typeface="Arial"/>
              </a:rPr>
              <a:t>Sedentary</a:t>
            </a: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 – settled; staying in one pla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ffff"/>
                </a:solidFill>
                <a:latin typeface="Arial"/>
              </a:rPr>
              <a:t>Specialization</a:t>
            </a: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 – developing special skills or train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Key Question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ff"/>
                </a:solidFill>
                <a:latin typeface="Arial"/>
              </a:rPr>
              <a:t>To what extent (how much) has history been shaped by geography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3e3ff"/>
                </a:solidFill>
                <a:latin typeface="Arial"/>
              </a:rPr>
              <a:t>Jared Diamond</a:t>
            </a:r>
            <a:r>
              <a:rPr b="0" lang="ja-JP" sz="4000" spc="-1" strike="noStrike">
                <a:solidFill>
                  <a:srgbClr val="e3e3ff"/>
                </a:solidFill>
                <a:latin typeface="Arial"/>
              </a:rPr>
              <a:t>’</a:t>
            </a:r>
            <a:r>
              <a:rPr b="0" lang="en-CA" sz="4000" spc="-1" strike="noStrike">
                <a:solidFill>
                  <a:srgbClr val="e3e3ff"/>
                </a:solidFill>
                <a:latin typeface="Arial"/>
              </a:rPr>
              <a:t>s book:</a:t>
            </a:r>
            <a:br>
              <a:rPr sz="4000"/>
            </a:br>
            <a:r>
              <a:rPr b="0" lang="en-CA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i="1" lang="en-CA" sz="4000" spc="-1" strike="noStrike">
                <a:solidFill>
                  <a:srgbClr val="e3e3ff"/>
                </a:solidFill>
                <a:latin typeface="Arial"/>
              </a:rPr>
              <a:t>Guns, Germs &amp; Stee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rcRect l="0" t="1215" r="717" b="1215"/>
          <a:stretch/>
        </p:blipFill>
        <p:spPr>
          <a:xfrm>
            <a:off x="179280" y="1484280"/>
            <a:ext cx="5616720" cy="46785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940000" y="1628280"/>
            <a:ext cx="3024360" cy="43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Diamond says that geography has led different civilizations to develop at different r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The earliest people came from Eastern Africa and were </a:t>
            </a:r>
            <a:r>
              <a:rPr b="1" lang="en-CA" sz="2000" spc="-1" strike="noStrike">
                <a:solidFill>
                  <a:srgbClr val="00ffcc"/>
                </a:solidFill>
                <a:latin typeface="Arial"/>
              </a:rPr>
              <a:t>nomads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They spread across the world over time, stopping when and where they found f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Geographic Luck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Diamond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 describes how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geographic luck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allowed people to develop </a:t>
            </a:r>
            <a:r>
              <a:rPr b="1" lang="en-CA" sz="2800" spc="-1" strike="noStrike">
                <a:solidFill>
                  <a:srgbClr val="00ffcc"/>
                </a:solidFill>
                <a:latin typeface="Arial"/>
              </a:rPr>
              <a:t>civiliz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First they needed to </a:t>
            </a:r>
            <a:r>
              <a:rPr b="1" lang="en-CA" sz="2800" spc="-1" strike="noStrike">
                <a:solidFill>
                  <a:srgbClr val="00ffcc"/>
                </a:solidFill>
                <a:latin typeface="Arial"/>
              </a:rPr>
              <a:t>domesticate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plants and anim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his gave them a reliable source of food and allowed them to create </a:t>
            </a:r>
            <a:r>
              <a:rPr b="1" lang="en-CA" sz="2800" spc="-1" strike="noStrike">
                <a:solidFill>
                  <a:srgbClr val="00ffcc"/>
                </a:solidFill>
                <a:latin typeface="Arial"/>
              </a:rPr>
              <a:t>sedentary societie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When they were able to grow </a:t>
            </a:r>
            <a:r>
              <a:rPr b="0" lang="en-CA" sz="2800" spc="-1" strike="noStrike">
                <a:solidFill>
                  <a:srgbClr val="afafff"/>
                </a:solidFill>
                <a:latin typeface="Arial"/>
              </a:rPr>
              <a:t>surplus (extra) food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this led to </a:t>
            </a:r>
            <a:r>
              <a:rPr b="1" lang="en-CA" sz="2800" spc="-1" strike="noStrike">
                <a:solidFill>
                  <a:srgbClr val="00ffcc"/>
                </a:solidFill>
                <a:latin typeface="Arial"/>
              </a:rPr>
              <a:t>specialization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, as some people developed crafts and trade rather than far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pecialization allowed them to develop increasingly complex </a:t>
            </a:r>
            <a:r>
              <a:rPr b="0" lang="en-CA" sz="2800" spc="-1" strike="noStrike">
                <a:solidFill>
                  <a:srgbClr val="afafff"/>
                </a:solidFill>
                <a:latin typeface="Arial"/>
              </a:rPr>
              <a:t>technology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, including </a:t>
            </a:r>
            <a:r>
              <a:rPr b="0" lang="en-CA" sz="2800" spc="-1" strike="noStrike">
                <a:solidFill>
                  <a:srgbClr val="afafff"/>
                </a:solidFill>
                <a:latin typeface="Arial"/>
              </a:rPr>
              <a:t>writing system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and a form of </a:t>
            </a:r>
            <a:r>
              <a:rPr b="0" lang="en-CA" sz="2800" spc="-1" strike="noStrike">
                <a:solidFill>
                  <a:srgbClr val="afafff"/>
                </a:solidFill>
                <a:latin typeface="Arial"/>
              </a:rPr>
              <a:t>gover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3e3ff"/>
                </a:solidFill>
                <a:latin typeface="Arial"/>
              </a:rPr>
              <a:t>River Civilization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5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Geographic luck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 sometimes began with a river, which provided a steady source of food and wa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Many of the earliest civilizations developed around ri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ncient Egypt depended on the Nile 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ncient Mesopotamia was in an area called 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e Fertile Crescent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between the Tigris &amp; Euphrates 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ncient India developed between the Indus and Ganges Riv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ncient China developed along the Yangzi and Huang He (Yellow) Riv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rcRect l="0" t="19238" r="0" b="0"/>
          <a:stretch/>
        </p:blipFill>
        <p:spPr>
          <a:xfrm>
            <a:off x="395280" y="3716280"/>
            <a:ext cx="82296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Food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lants and animals were the key to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geographic luck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Some plants and animals could be domesticated easily, providing large numbers of people with a reliable source of f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Plants in Europe, Asia &amp; North Africa included rice, wheat, and barley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Animals included pigs, cows, sheep and horses.  These could be used for food and also to help people with work.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This allowed Asians and Europeans to develop sedentary society early and eventually led to large civilization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Other plants and animals were not easily domesticated, so people remained nomads (following their foo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Most of the plants and animals in the Americas and Sub-Saharan Africa were wild, so they were not a reliable source of food or work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As a result, people in Southern Africa and the Americas remained nomads for thousands of year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3e3ff"/>
                </a:solidFill>
                <a:latin typeface="Arial"/>
              </a:rPr>
              <a:t>Latitude and Longitud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164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The shape of the continents was also import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Europe and Asia share similar latitudes, so the climate does not change much across the continents, and civilizations can easily spread with their plants, animals and technolo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Africa and the Americas have similar longitude, but very different latitudes.  As the latitude changes, so does the climate, making it very difficult to share ideas about food and farm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As a result, large civilizations helped to conquer and spread technologies across Europe and Asia, while Africa and America remained less develop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ggspic1"/>
          <p:cNvPicPr/>
          <p:nvPr/>
        </p:nvPicPr>
        <p:blipFill>
          <a:blip r:embed="rId1"/>
          <a:srcRect l="771" t="0" r="771" b="0"/>
          <a:stretch/>
        </p:blipFill>
        <p:spPr>
          <a:xfrm>
            <a:off x="4500720" y="1844640"/>
            <a:ext cx="44305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Popul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s large civilizations developed in Europe and Asia, populations gre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hese populations often shared cities and food sources, and were exposed to more dise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o people developed resistance to </a:t>
            </a:r>
            <a:r>
              <a:rPr b="0" lang="en-CA" sz="2800" spc="-1" strike="noStrike">
                <a:solidFill>
                  <a:srgbClr val="00ffcc"/>
                </a:solidFill>
                <a:latin typeface="Arial"/>
              </a:rPr>
              <a:t>germ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hey also developed advanced technologies, like ships and navigation tools that allowed them to sail across oceans exploring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Finally, they fought with one-another, so they developed deadly weapons, including </a:t>
            </a:r>
            <a:r>
              <a:rPr b="0" lang="en-CA" sz="2800" spc="-1" strike="noStrike">
                <a:solidFill>
                  <a:srgbClr val="00ffcc"/>
                </a:solidFill>
                <a:latin typeface="Arial"/>
              </a:rPr>
              <a:t>gun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CA" sz="2800" spc="-1" strike="noStrike">
                <a:solidFill>
                  <a:srgbClr val="00ffcc"/>
                </a:solidFill>
                <a:latin typeface="Arial"/>
              </a:rPr>
              <a:t>steel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wo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0:07:47Z</dcterms:created>
  <dc:creator>gh</dc:creator>
  <dc:description/>
  <dc:language>en-US</dc:language>
  <cp:lastModifiedBy>Microsoft Office User</cp:lastModifiedBy>
  <dcterms:modified xsi:type="dcterms:W3CDTF">2011-08-31T11:30:57Z</dcterms:modified>
  <cp:revision>6</cp:revision>
  <dc:subject/>
  <dc:title>Guns, Germs &amp; Steel</dc:title>
</cp:coreProperties>
</file>